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6CD-7C43-4F05-8A8B-0FDD67DA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7F1-AB0E-4772-BF86-B04D9152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263-0150-46A5-92EB-1A9913B5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822-76CB-4D75-9E18-C1A53A28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D85A-4949-4149-A744-438E61B7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99AB-069D-4934-8048-07076CC5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8EBE-20D0-4964-AD4C-B42F69F5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07CD-FB88-4FAD-A1E8-92B8497E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024B-68A1-4857-BA0F-F457C6E1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FF80-A5E1-45C9-BA9A-5204727C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2FA5-D8C9-400B-8F28-3761CF58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8A3-9D9A-42EE-AC1F-249D1543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0C3E-244A-4B4C-BAFD-CA47BD3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5713-DF0A-47DC-9CA8-05D9DB37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3860-AAE1-4977-9F0D-BBB8F299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0BB2-8AD4-4F47-A4E8-E55870A8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3E2D-D99D-4313-8432-C6DBDB05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2EB-24CB-4EFC-A2E2-AE6D77E7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011-294D-499F-8D27-BD0D58D2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653-BE4B-4478-AA4A-F23F0D69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D7B0-3F7A-479A-84EE-E54D1417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3CB-312B-45B5-8D6E-09A37286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D0D-576F-4FA2-944C-A8520240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A44-E447-490A-B20D-25FE1F9F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F253-C405-4E59-AABD-1C66D96BEC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D67A-E5E4-4472-8834-147BA15753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vira AND JES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CIMAL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MAL- A POINT BETWEEN A WHOLENUMBER AND A DECIMAL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RAC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- ANY PART OF A GROUP,NUMBER OR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OLE NUMB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-ALL,EVERTHING,TOTALAMOUNT,ALL THE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ARIABL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-A QUANTIY THAT CAN CHANGE OR VARY TALKING ON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PRES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-ONE OR A GROUP OF MATHEMATICAL SYMBOLS REPRESENTING A NUMBER OR QU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PON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-A SMALL NUMBER PLACE TO THE UPPER RIGHT OF A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55:29Z</dcterms:created>
  <dc:creator>shavira.samuel</dc:creator>
  <dc:description/>
  <dc:language>en-US</dc:language>
  <cp:lastModifiedBy>shavira.samuel</cp:lastModifiedBy>
  <dcterms:modified xsi:type="dcterms:W3CDTF">2010-11-23T19:37:40Z</dcterms:modified>
  <cp:revision>3</cp:revision>
  <dc:subject/>
  <dc:title>math</dc:title>
</cp:coreProperties>
</file>